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1DF-A3A9-46ED-85E1-6BF199A4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546-714B-4B9D-AD6F-7D2DB27B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B25-4935-4C34-9A2F-2303429E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195-EA1A-480C-A9FC-30E7446B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0C6-AFE0-4F8B-A687-40D3A6F4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C83-CA76-479C-A7D0-A4CC5CC6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F10-46C9-4DFB-8C89-BF94BD28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839-CEF1-455C-8600-E7732352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5A8-9C46-485A-9AE3-98A1EEAF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448-6E29-431F-853C-923AE92E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9CB-F0BA-4A36-B1C0-F15E7B4A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F60-D701-41B2-850A-0C4C77AD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BC75-139A-4420-9FB4-19026FAF45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382840" y="1440"/>
            <a:ext cx="8244000" cy="109728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7" descr=""/>
          <p:cNvPicPr/>
          <p:nvPr/>
        </p:nvPicPr>
        <p:blipFill>
          <a:blip r:embed="rId1"/>
          <a:srcRect l="0" t="3893" r="91550" b="3074"/>
          <a:stretch/>
        </p:blipFill>
        <p:spPr>
          <a:xfrm>
            <a:off x="2525760" y="1274760"/>
            <a:ext cx="3096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1"/>
          <p:cNvSpPr/>
          <p:nvPr/>
        </p:nvSpPr>
        <p:spPr>
          <a:xfrm>
            <a:off x="2681280" y="1542960"/>
            <a:ext cx="376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术硕士：基础医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硕士：药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2"/>
          <p:cNvSpPr/>
          <p:nvPr/>
        </p:nvSpPr>
        <p:spPr>
          <a:xfrm>
            <a:off x="357120" y="4300560"/>
            <a:ext cx="2168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l: 159890423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Email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chcgao@scut.edu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13"/>
          <p:cNvSpPr/>
          <p:nvPr/>
        </p:nvSpPr>
        <p:spPr>
          <a:xfrm>
            <a:off x="6730920" y="1604880"/>
            <a:ext cx="5070600" cy="30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研究方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: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组织工程与再生医学；神经修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组织工程与再生医学：针骨肿瘤、骨关节炎病变、糖尿病溃疡等疾病造成的组织损伤，基于成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结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功能仿生理念，采用组织工程方法实现损伤组织再生和功能恢复，研究组织修复机制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神经修复：针对疾病和意外事故造成的神经缺失，仿生构建多功能神经修复材料，模拟神经再生微环境，实现周围神经再生修复，研究神经再生机制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主要业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以第一或通讯作者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ngew. Chem. Int. Ed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hem. Eng. J., Bioact. Mater., Compos. Part B Eng., ACS Appl. Mat. Inter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等期刊发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SC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论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篇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F&gt;1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，申请国家发明专利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项（其中授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项），培养硕士研究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研究资助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主持国家级项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项（国家自然科学基金面上项目、青年项目），省部级项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项（广东省自然科学基金面上项目、广州市科技计划项目、中国博士后科学基金）、厅局级项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项、中央高校项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项，参与国家十三五重点研发项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6"/>
          <p:cNvSpPr/>
          <p:nvPr/>
        </p:nvSpPr>
        <p:spPr>
          <a:xfrm>
            <a:off x="2646360" y="4321080"/>
            <a:ext cx="3763800" cy="9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广东省生物医学工程学会植入器械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进制造分会  委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广东省转化医学学会  理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9"/>
          <p:cNvSpPr/>
          <p:nvPr/>
        </p:nvSpPr>
        <p:spPr>
          <a:xfrm>
            <a:off x="2384280" y="6556320"/>
            <a:ext cx="9232920" cy="18252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21"/>
          <p:cNvSpPr/>
          <p:nvPr/>
        </p:nvSpPr>
        <p:spPr>
          <a:xfrm>
            <a:off x="2639880" y="76320"/>
            <a:ext cx="35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会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2639880" y="519120"/>
            <a:ext cx="525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教授、硕士生导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23"/>
          <p:cNvSpPr/>
          <p:nvPr/>
        </p:nvSpPr>
        <p:spPr>
          <a:xfrm>
            <a:off x="444600" y="0"/>
            <a:ext cx="1806480" cy="1101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2"/>
          <p:cNvSpPr/>
          <p:nvPr/>
        </p:nvSpPr>
        <p:spPr>
          <a:xfrm>
            <a:off x="2655720" y="2571840"/>
            <a:ext cx="6096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21/09-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今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南理工大学   副教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8/01-2021/08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南理工大学   讲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/12-2017/1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南理工大学   博士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/09-2015/0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南理工大学   博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7"/>
          <p:cNvSpPr/>
          <p:nvPr/>
        </p:nvSpPr>
        <p:spPr>
          <a:xfrm>
            <a:off x="3063600" y="13003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生专业与类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24" descr=""/>
          <p:cNvPicPr/>
          <p:nvPr/>
        </p:nvPicPr>
        <p:blipFill>
          <a:blip r:embed="rId2"/>
          <a:srcRect l="0" t="3893" r="91550" b="3074"/>
          <a:stretch/>
        </p:blipFill>
        <p:spPr>
          <a:xfrm>
            <a:off x="2525760" y="2170080"/>
            <a:ext cx="309600" cy="35892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25"/>
          <p:cNvSpPr/>
          <p:nvPr/>
        </p:nvSpPr>
        <p:spPr>
          <a:xfrm>
            <a:off x="3063600" y="21956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育与研修经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27" descr=""/>
          <p:cNvPicPr/>
          <p:nvPr/>
        </p:nvPicPr>
        <p:blipFill>
          <a:blip r:embed="rId3"/>
          <a:srcRect l="0" t="3893" r="91550" b="3074"/>
          <a:stretch/>
        </p:blipFill>
        <p:spPr>
          <a:xfrm>
            <a:off x="6730920" y="1274760"/>
            <a:ext cx="308160" cy="35892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28"/>
          <p:cNvSpPr/>
          <p:nvPr/>
        </p:nvSpPr>
        <p:spPr>
          <a:xfrm>
            <a:off x="7158960" y="1300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研工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图片 26" descr=""/>
          <p:cNvPicPr/>
          <p:nvPr/>
        </p:nvPicPr>
        <p:blipFill>
          <a:blip r:embed="rId4"/>
          <a:srcRect l="0" t="3893" r="91550" b="3074"/>
          <a:stretch/>
        </p:blipFill>
        <p:spPr>
          <a:xfrm>
            <a:off x="2525760" y="3905280"/>
            <a:ext cx="309600" cy="35892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25"/>
          <p:cNvSpPr/>
          <p:nvPr/>
        </p:nvSpPr>
        <p:spPr>
          <a:xfrm>
            <a:off x="3027240" y="3930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术团体任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32" descr=""/>
          <p:cNvPicPr/>
          <p:nvPr/>
        </p:nvPicPr>
        <p:blipFill>
          <a:blip r:embed="rId5"/>
          <a:srcRect l="10009" t="0" r="8136" b="0"/>
          <a:stretch/>
        </p:blipFill>
        <p:spPr>
          <a:xfrm>
            <a:off x="10810800" y="85680"/>
            <a:ext cx="1123920" cy="10303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"/>
          <p:cNvPicPr/>
          <p:nvPr/>
        </p:nvPicPr>
        <p:blipFill>
          <a:blip r:embed="rId6"/>
          <a:stretch/>
        </p:blipFill>
        <p:spPr>
          <a:xfrm>
            <a:off x="404640" y="1274760"/>
            <a:ext cx="1839960" cy="28083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6" descr=""/>
          <p:cNvPicPr/>
          <p:nvPr/>
        </p:nvPicPr>
        <p:blipFill>
          <a:blip r:embed="rId7"/>
          <a:srcRect l="0" t="3893" r="91550" b="3074"/>
          <a:stretch/>
        </p:blipFill>
        <p:spPr>
          <a:xfrm>
            <a:off x="2478240" y="5454720"/>
            <a:ext cx="309240" cy="35856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25"/>
          <p:cNvSpPr/>
          <p:nvPr/>
        </p:nvSpPr>
        <p:spPr>
          <a:xfrm>
            <a:off x="2907000" y="5479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生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3147480" y="5867280"/>
            <a:ext cx="164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科研有热性、乐观开朗、做事踏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02:17:26Z</dcterms:created>
  <dc:creator>china</dc:creator>
  <dc:description/>
  <dc:language>en-US</dc:language>
  <cp:lastModifiedBy>ghc</cp:lastModifiedBy>
  <dcterms:modified xsi:type="dcterms:W3CDTF">2023-03-28T09:48:45Z</dcterms:modified>
  <cp:revision>405</cp:revision>
  <dc:subject/>
  <dc:title>PowerPoint 演示文稿</dc:title>
</cp:coreProperties>
</file>