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9B4-7A73-4FCD-A11F-899D8971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6E2-5D66-4CAA-B2E7-62B120CC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3C4-33EF-47C4-B4A2-F3DBD631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2F1-1F4F-4E0C-B9AC-D2F07DC3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705-0FF1-4F4E-8242-2D03B8BB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398-2CDD-4661-8E93-C9A727F3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93E-2480-4445-BF2B-D9BBF76C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A29-884E-4434-8282-2A15D6A4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062-D5BB-447F-A293-82B1552C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0F8-1E76-494D-BA6A-4CAC86FB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FFA-0C07-4EA5-814D-6598A20B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921-79E8-4AB0-8C7A-8FE25B5A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A91E-EFCF-46F9-8838-A048B90465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382840" y="1440"/>
            <a:ext cx="8244000" cy="109728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7" descr=""/>
          <p:cNvPicPr/>
          <p:nvPr/>
        </p:nvPicPr>
        <p:blipFill>
          <a:blip r:embed="rId1"/>
          <a:srcRect l="0" t="3916" r="91548" b="3106"/>
          <a:stretch/>
        </p:blipFill>
        <p:spPr>
          <a:xfrm>
            <a:off x="2525760" y="1274760"/>
            <a:ext cx="3096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1"/>
          <p:cNvSpPr/>
          <p:nvPr/>
        </p:nvSpPr>
        <p:spPr>
          <a:xfrm>
            <a:off x="2687760" y="1554120"/>
            <a:ext cx="37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术硕士：临床医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2"/>
          <p:cNvSpPr/>
          <p:nvPr/>
        </p:nvSpPr>
        <p:spPr>
          <a:xfrm>
            <a:off x="309600" y="4230720"/>
            <a:ext cx="20541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l: (20) 810763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Email: bluemo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@163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13"/>
          <p:cNvSpPr/>
          <p:nvPr/>
        </p:nvSpPr>
        <p:spPr>
          <a:xfrm>
            <a:off x="6819840" y="1544760"/>
            <a:ext cx="442908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方向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经康复，关注于吞咽障碍的生物力学及功能重组机制、经颅磁刺激精准靶向治疗及脑可塑性等研究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业绩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获发明及实用新型专利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机软件著作权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。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表学术论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篇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I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篇。副主编专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，参编各类专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资助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承担国家自然科学基金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、国家重大专项子课题等国家级、省市级项目共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，参与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生培养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养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硕士研究生多名，其中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获得国家优秀研究生奖学金及其他各级奖学金。在读研究生均有机会参加国内外会议交流机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6"/>
          <p:cNvSpPr/>
          <p:nvPr/>
        </p:nvSpPr>
        <p:spPr>
          <a:xfrm>
            <a:off x="2646360" y="4389480"/>
            <a:ext cx="3763800" cy="19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2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自然科学基金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吞咽脑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EP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位图绘制的卒中后吞咽功能重建机制研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家自然科学基金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颅磁刺激对脑梗死后吞咽障碍中枢通路影响机制研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科技攻关计划项目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益研究与能力建设重大专项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B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靶向刺激治疗卒中后吞咽障碍的临床转化研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州市市产学研协同创新重大专项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竞争性抑制理论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MS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卒中后吞咽障碍标准化治疗范式研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9"/>
          <p:cNvSpPr/>
          <p:nvPr/>
        </p:nvSpPr>
        <p:spPr>
          <a:xfrm>
            <a:off x="2384280" y="6556320"/>
            <a:ext cx="9232920" cy="18252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21"/>
          <p:cNvSpPr/>
          <p:nvPr/>
        </p:nvSpPr>
        <p:spPr>
          <a:xfrm>
            <a:off x="2639880" y="76320"/>
            <a:ext cx="35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兰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2639880" y="519120"/>
            <a:ext cx="71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 主任医师 博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硕士生导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南理工大学附属第二医院（广州市第一人民医院）康复医学科 科主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3"/>
          <p:cNvSpPr/>
          <p:nvPr/>
        </p:nvSpPr>
        <p:spPr>
          <a:xfrm>
            <a:off x="444600" y="0"/>
            <a:ext cx="1806480" cy="1101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2"/>
          <p:cNvSpPr/>
          <p:nvPr/>
        </p:nvSpPr>
        <p:spPr>
          <a:xfrm>
            <a:off x="2646360" y="2644920"/>
            <a:ext cx="609588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6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山大学（中山医科大学）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3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山大学 康复医学与理疗学 硕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山大学 康复医学与理疗学 博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6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山大学附属第三医院 医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国佛罗里达大学 访问学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南理工大学附属第二医院 康复医学科 主任医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7"/>
          <p:cNvSpPr/>
          <p:nvPr/>
        </p:nvSpPr>
        <p:spPr>
          <a:xfrm>
            <a:off x="3063600" y="13003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招生专业与类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24" descr=""/>
          <p:cNvPicPr/>
          <p:nvPr/>
        </p:nvPicPr>
        <p:blipFill>
          <a:blip r:embed="rId2"/>
          <a:srcRect l="0" t="3916" r="91548" b="3106"/>
          <a:stretch/>
        </p:blipFill>
        <p:spPr>
          <a:xfrm>
            <a:off x="2525760" y="2309760"/>
            <a:ext cx="309600" cy="35892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25"/>
          <p:cNvSpPr/>
          <p:nvPr/>
        </p:nvSpPr>
        <p:spPr>
          <a:xfrm>
            <a:off x="3063600" y="23353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育与研修经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27" descr=""/>
          <p:cNvPicPr/>
          <p:nvPr/>
        </p:nvPicPr>
        <p:blipFill>
          <a:blip r:embed="rId3"/>
          <a:srcRect l="0" t="3916" r="91548" b="3106"/>
          <a:stretch/>
        </p:blipFill>
        <p:spPr>
          <a:xfrm>
            <a:off x="6730920" y="1274760"/>
            <a:ext cx="308160" cy="35892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28"/>
          <p:cNvSpPr/>
          <p:nvPr/>
        </p:nvSpPr>
        <p:spPr>
          <a:xfrm>
            <a:off x="7158960" y="1300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科研工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图片 26" descr=""/>
          <p:cNvPicPr/>
          <p:nvPr/>
        </p:nvPicPr>
        <p:blipFill>
          <a:blip r:embed="rId4"/>
          <a:srcRect l="0" t="3916" r="91548" b="3106"/>
          <a:stretch/>
        </p:blipFill>
        <p:spPr>
          <a:xfrm>
            <a:off x="2525760" y="4052880"/>
            <a:ext cx="309600" cy="35892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25"/>
          <p:cNvSpPr/>
          <p:nvPr/>
        </p:nvSpPr>
        <p:spPr>
          <a:xfrm>
            <a:off x="2954520" y="4078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研课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30" descr=""/>
          <p:cNvPicPr/>
          <p:nvPr/>
        </p:nvPicPr>
        <p:blipFill>
          <a:blip r:embed="rId5"/>
          <a:srcRect l="0" t="3916" r="91548" b="3106"/>
          <a:stretch/>
        </p:blipFill>
        <p:spPr>
          <a:xfrm>
            <a:off x="6730920" y="4067280"/>
            <a:ext cx="308160" cy="35856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28"/>
          <p:cNvSpPr/>
          <p:nvPr/>
        </p:nvSpPr>
        <p:spPr>
          <a:xfrm>
            <a:off x="7160040" y="4092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框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32" descr=""/>
          <p:cNvPicPr/>
          <p:nvPr/>
        </p:nvPicPr>
        <p:blipFill>
          <a:blip r:embed="rId6"/>
          <a:srcRect l="10009" t="0" r="8136" b="0"/>
          <a:stretch/>
        </p:blipFill>
        <p:spPr>
          <a:xfrm>
            <a:off x="10810800" y="85680"/>
            <a:ext cx="1123920" cy="103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D:\LY Document\My document(ly)\兰月简介\证件照\IMG_6976(修）.JPG"/>
          <p:cNvPicPr/>
          <p:nvPr/>
        </p:nvPicPr>
        <p:blipFill>
          <a:blip r:embed="rId7"/>
          <a:srcRect l="5801" t="0" r="5610" b="0"/>
          <a:stretch/>
        </p:blipFill>
        <p:spPr>
          <a:xfrm>
            <a:off x="279360" y="1268280"/>
            <a:ext cx="2006640" cy="2705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D:\LY Document\My document(ly)\兰月简介\华南理工大学导师申请\图片1.png"/>
          <p:cNvPicPr/>
          <p:nvPr/>
        </p:nvPicPr>
        <p:blipFill>
          <a:blip r:embed="rId8"/>
          <a:stretch/>
        </p:blipFill>
        <p:spPr>
          <a:xfrm>
            <a:off x="6904080" y="4178160"/>
            <a:ext cx="5288040" cy="238788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1"/>
          <p:cNvSpPr/>
          <p:nvPr/>
        </p:nvSpPr>
        <p:spPr>
          <a:xfrm>
            <a:off x="2687760" y="1782720"/>
            <a:ext cx="37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硕士：临床医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4T02:17:00Z</dcterms:created>
  <dc:creator>china</dc:creator>
  <dc:description/>
  <dc:language>en-US</dc:language>
  <cp:lastModifiedBy>what what</cp:lastModifiedBy>
  <cp:lastPrinted>2017-07-03T03:47:00Z</cp:lastPrinted>
  <dcterms:modified xsi:type="dcterms:W3CDTF">2023-03-28T04:23:32Z</dcterms:modified>
  <cp:revision>5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