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5D8-30C5-4D22-8465-8AF12AE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2A7-F672-4835-A131-D0232E9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F563D-6E80-4F7F-AE54-8DF8133E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86B08-E318-4A99-9D73-D990C6FC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7ECBA-1F93-4770-9EB2-6D22B49E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E169-DC1A-4ED9-A1A6-22A9B9C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2CD15-6518-4B1E-981E-F00B239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3A8A3-37A5-46DF-82DF-D00E1C2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3AA0-C31A-4366-8E94-EA74225E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CCB5F-B3C0-461B-B743-B664EFF7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56FE7-D90D-460F-83CC-0893C077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2BAEE-170E-42EC-81B0-889DE980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2BE-7144-44AD-B7BB-EFC578F4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C36A2-EEAE-4F03-AF8A-9B6EB334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0DC3B-69EA-40E0-B083-4743636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B5D7-A6DE-4CD8-A75C-53E6DED3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22E30-D169-4BA5-8BDC-B373BAFC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ED68D-C37E-4D26-8125-D6827DF4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FE388-E9EC-49C9-83C5-3D7A73A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0692C-3ABF-4113-8151-A73D24B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BE528-21BF-4BEF-B37D-52A8025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0957F-0525-440F-8406-472FE29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3099F-46C3-438B-BD83-4E757A1C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5B1-0220-4955-B32C-6BF372D9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50206-BCA1-4F71-A514-38BAFB83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076C-F888-4720-8838-4BC783B7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03FB5-5FC5-45DD-BD23-6D346A01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CDD97-056F-4C0E-984A-88A0E1BB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84D1F-77D8-4ACD-8A0C-37DD7E0E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A75B0-C2FE-46E7-B770-F24C36D1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2A50E-478B-4AED-9B32-7AF8F870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C1A34-4297-4B2E-9210-98AA5D8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16FAA-870B-464E-8C8F-B3BA147E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48FC-9221-4D7B-AE7A-30D7F2F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F3B7-F6C3-4CD3-8D0A-26DA61C4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EEA07-AB82-4E6B-9C46-5CCCF09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07E30-A00D-4384-9835-7101297C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937C2-3AB4-4EB2-8CC5-AE5144F0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5F547-C094-4C44-9031-378A60DE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0FD97-A80A-4147-BDA1-917C572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4CF55-4666-416B-9AFF-935F4575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67643-CE59-44E5-B9EE-D6E78272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57007-A7F6-4D9E-91AA-18F62E7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4A830-2996-445C-97FE-C7F6DB93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D127D-BA64-4884-A813-A7E5E9F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9E5-2607-40A9-A137-EAF6BD0D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7A214-4BE1-4164-9426-3B71B4E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20C38-9D6C-47D6-A395-1E01577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6C70-02AF-4E77-8C63-26782B3B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4BBDC-9EEC-4694-A242-22B2AA85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65983-C555-4EF4-8622-458417F3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C88CE-5291-43C1-B006-C2E0CC12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21237-2325-4AA4-8E00-632A4DFA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5FEC7-227E-403A-905B-2BD27D3E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4A259-F3F0-4FAD-822E-B9487891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CDE22-450A-48B7-8C58-D7D1D58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5F5C-24B2-46C0-BF72-10402E94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2D818-56CD-4E05-A506-1077380B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4378C-6CC0-4222-99CD-FCD87B68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ED0BE-A547-4698-B035-6E45157B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3AB38-8CD7-477B-A055-BFCC1922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08F1D-93B3-4928-B745-FE7FAA2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14F05-D37A-4CB4-9F69-3E48470F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82C90-B4D5-4362-9963-EF07BBB6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569A-EFAD-4972-BC4E-D09A4A9C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13D-6A8B-4CDC-BF74-30CC3903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1BA-67D6-4143-8D4B-3B9B47F6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48B7-76E0-40EC-8EC6-41BA3C4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0CF-9AEE-4145-A597-FFA32094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232F-D9FC-48D5-BD39-33A81CDF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B89F-F804-45B3-8CAB-1AA320F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6B24-4E57-452F-AAF9-063C1B4C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20EA-B674-433C-90ED-B465BE8D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B32E-BE30-4C6C-B50B-2D5708E3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0DF2-E972-43E2-8EB1-0F7737A1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A630-F1AD-4C3E-8CC9-693BC5A5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2F93-C9F9-44CC-9FB2-F7344F12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AEDC-9C99-4A50-A17E-D4BDD86A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D7CD-E5B0-4699-AB96-C56677E7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423-0C6C-4B8D-B148-354DC214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CC18-5F9C-475C-9CA7-295A758A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38E4-187D-4AE0-B8A3-3C09133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F1AF-DB24-4C7E-A750-1C6647B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C224-C840-4538-BA0C-8E598F4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97A6-CAFB-4714-B57D-85A4173C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9816-02F5-4BB6-B848-A17B43B2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D2AC-1BCE-4C48-A115-BFC8BF69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72DF-813B-4DBB-B23D-FC90DE5A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AE80-8BA6-49DB-B867-D31639AB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17D0-2994-49B8-929D-2D04285D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D40-CF9E-4B83-89C4-15AB48BC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CBC7-35C4-4DE3-B894-EF920D8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F503-0006-4537-B8C5-DA6AC1BE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E185-EA03-4066-8606-3D01C80C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D795-F9AD-47E9-A8C1-91250D01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473F-B656-4D2B-9245-6C73017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ADEA-2130-44B5-9EF5-8C410F1C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F09A-E129-4278-9568-24095C12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181E-B687-44FA-853D-67F72357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0361-4648-44DE-AC13-9ADF928A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16AD-0471-42F6-8B7A-028CFE3D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5F4-D7E9-4E16-9E28-FA3B2DEE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EB31-0FDC-4381-8DB5-D26B832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E108-EA20-4168-A61D-C452C7B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4822-E446-43E2-B483-CFC112A0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7489-112A-4995-B480-C10D6581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88BF-E966-4FE6-9107-048800E3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8153-58DA-4116-B0A9-2551005C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1727-9ADE-43E7-A6D1-67DB6EA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D05D-7563-4D8F-81E0-2E5DEAD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BB16-6E5E-4593-9D2A-A848A48D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F3019-E175-4731-A5FE-34D0AE8C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174-AAAC-4B5E-AEE6-A25063DE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AF4F-8BC6-41B3-84C8-389CFEF0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73E28-52BD-4A1B-87D0-B3468D94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EB80-EC80-4406-9618-E14EFFD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1EF00-721A-40FE-A3F6-4C193FF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AD116-7C80-4314-8546-7067D92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6A395-7845-42B1-8D99-24AB095F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2D6E7-2350-48C0-B954-8398D3FE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11E0B-5C5A-4BB8-AAA0-0908B48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50CC-03A9-450E-B373-A436FEDD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5EA28-B7C1-4879-AFC0-EC7E622D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714-3990-4B1E-B91E-C0F85FD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7EC65-EC72-40F3-B3B3-976E41B3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E72F-A347-453D-A0A4-3C5AAE3F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7203-F84C-4FE3-9156-BFF06A9F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08E8-9CE5-4E55-8A52-1DDC3EA4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86C10-220A-4FD1-A4D6-D761CFCC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49AD-827A-4210-894A-1E1386C4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6D3F6-578A-45C7-AA33-23BD92B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550CB-1AD4-4AEA-AC31-58A808B4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5552-A4FB-4728-9384-677D8B2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4D766-8F85-40C7-8CC5-F5CA110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BBD-66DE-47EF-B597-739237F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BE999-D05C-4E04-B3FC-A83CD83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960E-A908-4197-AA66-72C1389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44E5D-6446-489E-B8F1-7964B8B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09E82-CDAD-4390-A339-4E20E14D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1DF60-A204-40DB-B34D-05266606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36E4-2D32-4899-9C30-3FB74715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4AA6-CC7D-4D37-BE70-2D308092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37EB-DB06-442E-9411-BA7DCA9E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6E1C8-84B0-4ECB-9AA4-F4999B94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4FF8D-DEF4-41D3-9CAE-09DAF1E3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893-EDCD-4A95-8062-F471C06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7AE1-AC88-4C45-9889-5BF0AFFF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8C9B9-BF58-4717-AA8C-4F758FE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D784F-BBAC-4AF3-9CA8-8BE4C0D8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5CEF7-40C9-4A84-AC75-D60359D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B29B4-553D-47F4-A53C-779759F4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09AA5-8BA6-4640-896A-51D9D7F4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134A-0EC4-4CDB-A972-BF3C90CD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D1C07-4BCD-4BB5-8654-8C5C8029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70EA2-A2D7-41FC-8374-1868651B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B2828-A8F8-4CF3-B5D1-2C1C51C9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6C0-7163-4062-AB70-161E4336E96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80C2-84C5-4557-A9B8-45D48D1364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8BC9-A367-4BDF-A196-96E4FBEED6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4701-69D5-4AEF-8FDF-B65CE8A74D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A16-4441-4AFD-A8CE-A5BE06DB1D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F27B-1909-4C8D-BAF5-BCF75D088C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7DC-8B86-47E8-8D22-84C59029F4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722-3207-4257-B90A-5958F19735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62E5-D6DC-48D6-BCA9-CDA12A541BF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6DF7-EB8A-49AC-9908-3D20F9C797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4494-6D7F-4CAA-BB18-CD3BC44184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9639-389F-410D-8111-9ABE40F71F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2AA8-CFA0-462D-AE5D-493C924341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4705-70FD-4311-8D50-5275D37102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E0C1-00E8-42C6-B0C2-1CF6CF55BE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F68A-2906-4748-9EA7-9BAF064C1C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EDAA-92AA-4A4C-88DF-D89D9A12EB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CE17-7B58-49E5-9ED4-C331B61C08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AE36-FB03-43BC-B976-F2BD5AFC0D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7C4F-0FC9-4A2A-8A1C-DC68F015BF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018-81A2-440B-AAF1-0F97E3663C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5E30-EA52-4C0C-9EFE-BA87476729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DB45-0BF1-477F-87F6-616361834D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34C6-E9DD-4550-A1FB-A5D04EA1EB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9F1-8FDF-4834-98BE-4ABBA60540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43FE-9EEF-46D4-9025-9DCE6E552E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0"/>
          <p:cNvSpPr/>
          <p:nvPr/>
        </p:nvSpPr>
        <p:spPr>
          <a:xfrm>
            <a:off x="1500120" y="2428920"/>
            <a:ext cx="6215040" cy="1214280"/>
          </a:xfrm>
          <a:prstGeom prst="rect">
            <a:avLst/>
          </a:prstGeom>
          <a:solidFill>
            <a:srgbClr val="90c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参赛作品名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52204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Calibri"/>
              </a:rPr>
              <a:t>队伍名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4"/>
          <p:cNvSpPr/>
          <p:nvPr/>
        </p:nvSpPr>
        <p:spPr>
          <a:xfrm>
            <a:off x="5522040" y="4714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Calibri"/>
              </a:rPr>
              <a:t>参赛组别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前沿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竞争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与作品实践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3"/>
          <p:cNvSpPr/>
          <p:nvPr/>
        </p:nvSpPr>
        <p:spPr>
          <a:xfrm>
            <a:off x="2204640" y="2571840"/>
            <a:ext cx="51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Comic Sans MS"/>
              </a:rPr>
              <a:t>Thank you~</a:t>
            </a:r>
            <a:r>
              <a:rPr b="1" lang="zh-CN" sz="5400" spc="-1" strike="noStrike">
                <a:solidFill>
                  <a:srgbClr val="0d0d0d"/>
                </a:solidFill>
                <a:latin typeface="Comic Sans MS"/>
              </a:rPr>
              <a:t>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4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3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500040" y="1928880"/>
            <a:ext cx="80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、提交参赛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时，需把该页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”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填写说明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、报名参赛所提交作品，需严格按此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格式，包括保留封面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P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和 结尾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P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、作品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内容请按每一项内容详细说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、如有其它相关内容可在所有项介绍之后补充，但整个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不可超过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15P</a:t>
            </a: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4"/>
          <p:cNvSpPr/>
          <p:nvPr/>
        </p:nvSpPr>
        <p:spPr>
          <a:xfrm>
            <a:off x="3714840" y="0"/>
            <a:ext cx="200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圆角矩形 5"/>
          <p:cNvSpPr/>
          <p:nvPr/>
        </p:nvSpPr>
        <p:spPr>
          <a:xfrm>
            <a:off x="1857240" y="1928880"/>
            <a:ext cx="5643720" cy="5000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46d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截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圆角矩形 6"/>
          <p:cNvSpPr/>
          <p:nvPr/>
        </p:nvSpPr>
        <p:spPr>
          <a:xfrm>
            <a:off x="1857240" y="2571840"/>
            <a:ext cx="5643720" cy="5000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8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开发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圆角矩形 7"/>
          <p:cNvSpPr/>
          <p:nvPr/>
        </p:nvSpPr>
        <p:spPr>
          <a:xfrm>
            <a:off x="1857240" y="3214800"/>
            <a:ext cx="5643720" cy="5000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46d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创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圆角矩形 8"/>
          <p:cNvSpPr/>
          <p:nvPr/>
        </p:nvSpPr>
        <p:spPr>
          <a:xfrm>
            <a:off x="1857240" y="3857760"/>
            <a:ext cx="5643720" cy="5000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8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可行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圆角矩形 9"/>
          <p:cNvSpPr/>
          <p:nvPr/>
        </p:nvSpPr>
        <p:spPr>
          <a:xfrm>
            <a:off x="1857240" y="4500720"/>
            <a:ext cx="5643720" cy="5000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46d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前沿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圆角矩形 10"/>
          <p:cNvSpPr/>
          <p:nvPr/>
        </p:nvSpPr>
        <p:spPr>
          <a:xfrm>
            <a:off x="1857240" y="5143680"/>
            <a:ext cx="5643720" cy="5000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8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竞争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圆角矩形 11"/>
          <p:cNvSpPr/>
          <p:nvPr/>
        </p:nvSpPr>
        <p:spPr>
          <a:xfrm>
            <a:off x="1857240" y="5786280"/>
            <a:ext cx="5643720" cy="500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46d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与作品实践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圆角矩形 12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圆角矩形 15"/>
          <p:cNvSpPr/>
          <p:nvPr/>
        </p:nvSpPr>
        <p:spPr>
          <a:xfrm>
            <a:off x="1857240" y="1285920"/>
            <a:ext cx="5643720" cy="5000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8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截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截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开发价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创新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可行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3"/>
          <p:cNvSpPr/>
          <p:nvPr/>
        </p:nvSpPr>
        <p:spPr>
          <a:xfrm>
            <a:off x="285840" y="214200"/>
            <a:ext cx="1214280" cy="857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3:09:00Z</dcterms:created>
  <dc:creator>User</dc:creator>
  <dc:description/>
  <cp:keywords/>
  <dc:language>en-US</dc:language>
  <cp:lastModifiedBy>张连波</cp:lastModifiedBy>
  <dcterms:modified xsi:type="dcterms:W3CDTF">2015-04-07T08:08:1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